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715-91EB-4F6B-97BC-F14EB9E6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C2A-A597-48FC-ADB6-CAC8F1D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322-B919-4D7E-9316-59163CB2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46D-D24A-4C5A-8198-C303C289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70CB-2262-4CBC-B292-A675F816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48CD-5D43-4983-B4DA-C2AA0162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D8DD-47CF-4E50-9BE0-EBF029C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BB5-CC50-4807-B1B6-84DA926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9760-F8B5-45D1-91DD-A554149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699-4507-41D8-8A1E-AF5CB894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6A0E-312E-4235-85E1-5CDC82D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000-EE91-488D-AAF3-EEC3DAF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92F3-0B9E-4DB9-88AC-BA15405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85BA-4F8B-455E-8688-9789B963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D9CB-60F1-41B4-80F3-E9FE287A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2C0-E9CA-4B20-80AF-CE98E0A9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A8C-8181-471F-A2FD-B8E5B21B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FDA-2EF0-4A22-BA8C-BE651B9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7FF-5F73-47F8-8073-8402ABC2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660-6018-4A4A-9864-9AEEB7F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07C-9106-492C-84C4-4C65BD5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9FF-D3C9-48DE-9F6E-84895129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A87-285C-407C-99FC-F6F7F27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323-9897-4F23-AAEA-DB5E6B23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60B-F8A0-4CEF-A3D4-5FDE50237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FEA1-93BD-402B-8993-258BA43D5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n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2 paragraph story that includes at least 6 gothic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a partner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estions on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11:40Z</dcterms:created>
  <dc:creator>Angie</dc:creator>
  <dc:description/>
  <dc:language>en-US</dc:language>
  <cp:lastModifiedBy>Angie</cp:lastModifiedBy>
  <dcterms:modified xsi:type="dcterms:W3CDTF">2011-08-24T06:13:42Z</dcterms:modified>
  <cp:revision>1</cp:revision>
  <dc:subject/>
  <dc:title>Short Stories</dc:title>
</cp:coreProperties>
</file>